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wmf" ContentType="image/x-wmf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777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9A8F33-0C15-4B4E-8676-B3E0CACD44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739152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0" y="3895920"/>
            <a:ext cx="739152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99274A-A3DA-475F-A494-B32C227083E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787560" y="99036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0" y="389592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787560" y="389592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26256E-6F52-4CF2-A348-A21C8C86851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237996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499480" y="990360"/>
            <a:ext cx="237996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998600" y="990360"/>
            <a:ext cx="237996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0" y="3895920"/>
            <a:ext cx="237996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499480" y="3895920"/>
            <a:ext cx="237996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4998600" y="3895920"/>
            <a:ext cx="237996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E9EED5-89BF-4EDC-8378-C70187CF636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0" y="990360"/>
            <a:ext cx="7391520" cy="55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7391520" cy="556236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3606840" cy="556236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87560" y="990360"/>
            <a:ext cx="3606840" cy="556236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739152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787560" y="990360"/>
            <a:ext cx="3606840" cy="556236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0" y="389592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0" y="990360"/>
            <a:ext cx="7391520" cy="55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21939C-3F5C-48D3-9C2B-3506F9BB3C0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3606840" cy="556236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787560" y="99036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787560" y="389592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787560" y="99036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0" y="3895920"/>
            <a:ext cx="739152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739152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0" y="3895920"/>
            <a:ext cx="739152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787560" y="99036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0" y="389592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787560" y="389592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237996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499480" y="990360"/>
            <a:ext cx="237996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998600" y="990360"/>
            <a:ext cx="237996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0" y="3895920"/>
            <a:ext cx="237996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499480" y="3895920"/>
            <a:ext cx="237996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4998600" y="3895920"/>
            <a:ext cx="237996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7391520" cy="556236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91AB47-9F42-4023-BC8D-0C10C2236C3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3606840" cy="556236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787560" y="990360"/>
            <a:ext cx="3606840" cy="556236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8F9EF1-CAA6-4DFF-9B2C-55DCC30193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381D5E-085B-47DD-ABCD-D8A78161897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739152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74C127-4946-451C-BEC6-135FAD1E73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787560" y="990360"/>
            <a:ext cx="3606840" cy="556236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0" y="389592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78C3E7-580B-41C1-B0C1-ECA15C3D43A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3606840" cy="556236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787560" y="99036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787560" y="389592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2E1B06-A1A1-4694-8236-42A1043E02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787560" y="99036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0" y="3895920"/>
            <a:ext cx="739152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E669D7-D3AC-4095-AD0B-F8C6EEAED8D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logo" descr=""/>
          <p:cNvPicPr/>
          <p:nvPr/>
        </p:nvPicPr>
        <p:blipFill>
          <a:blip r:embed="rId3"/>
          <a:stretch/>
        </p:blipFill>
        <p:spPr>
          <a:xfrm>
            <a:off x="7391520" y="0"/>
            <a:ext cx="1752480" cy="99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0" y="990360"/>
            <a:ext cx="7391520" cy="556236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marL="285840" indent="-285840">
              <a:spcBef>
                <a:spcPts val="499"/>
              </a:spcBef>
              <a:buClr>
                <a:srgbClr val="336699"/>
              </a:buClr>
              <a:buFont typeface="Wingdings" charset="2"/>
              <a:buChar char="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9360" indent="-262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97000" indent="-239760">
              <a:spcBef>
                <a:spcPts val="499"/>
              </a:spcBef>
              <a:buClr>
                <a:srgbClr val="002b5d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76520" indent="-239760">
              <a:spcBef>
                <a:spcPts val="499"/>
              </a:spcBef>
              <a:buClr>
                <a:srgbClr val="002b5d"/>
              </a:buClr>
              <a:buFont typeface="Arial"/>
              <a:buChar char="–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55680" indent="-239400">
              <a:spcBef>
                <a:spcPts val="499"/>
              </a:spcBef>
              <a:buClr>
                <a:srgbClr val="002b5d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155680" indent="-2394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155680" indent="-2394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2828880" y="2693880"/>
            <a:ext cx="41400" cy="3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1143000"/>
            <a:ext cx="7754760" cy="10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96840" y="1996920"/>
            <a:ext cx="8994600" cy="43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713040" y="3038400"/>
            <a:ext cx="148932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32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abab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1"/>
          </p:nvPr>
        </p:nvSpPr>
        <p:spPr>
          <a:xfrm>
            <a:off x="0" y="6552720"/>
            <a:ext cx="7391520" cy="3049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2"/>
          </p:nvPr>
        </p:nvSpPr>
        <p:spPr>
          <a:xfrm>
            <a:off x="4266720" y="6552720"/>
            <a:ext cx="838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36000" bIns="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Page </a:t>
            </a:r>
            <a:fld id="{C98B6696-9DE1-41B7-B55A-5827971BA5CE}" type="slidenum">
              <a:rPr b="0" lang="de-DE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14040" y="2819520"/>
            <a:ext cx="563868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32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logo" descr=""/>
          <p:cNvPicPr/>
          <p:nvPr/>
        </p:nvPicPr>
        <p:blipFill>
          <a:blip r:embed="rId3"/>
          <a:stretch/>
        </p:blipFill>
        <p:spPr>
          <a:xfrm>
            <a:off x="5657760" y="1146240"/>
            <a:ext cx="3200400" cy="990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304920" y="0"/>
            <a:ext cx="73911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08000" tIns="3600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Agenda SPM-Jour Fix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-92160" y="1371600"/>
            <a:ext cx="7712280" cy="40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ct val="100000"/>
              </a:lnSpc>
              <a:buClr>
                <a:srgbClr val="ffcc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urchsprache change requests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45 min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cc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urchsprache Projekt Stat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cc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Leopard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15 m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Hera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15 m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Ulysses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15 m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X-Cite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15 m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enelope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15 m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ris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15 m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Neo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15 m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cc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cc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llgemeines / Organisatorisches / Action Items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15 m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5994360" y="1143000"/>
            <a:ext cx="2819520" cy="502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ffcc"/>
              </a:gs>
              <a:gs pos="100000">
                <a:srgbClr val="ffff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124080" y="1143000"/>
            <a:ext cx="2819520" cy="502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ffcc"/>
              </a:gs>
              <a:gs pos="100000">
                <a:srgbClr val="ffff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54160" y="1143000"/>
            <a:ext cx="2819160" cy="502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ffcc"/>
              </a:gs>
              <a:gs pos="100000">
                <a:srgbClr val="ffff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04920" y="0"/>
            <a:ext cx="73911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08000" tIns="3600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Progress NE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216000" y="1346040"/>
          <a:ext cx="8458200" cy="67564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16000" y="1346040"/>
                    <a:ext cx="8458200" cy="675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304920" y="0"/>
            <a:ext cx="73911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08000" tIns="3600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Risks and Actions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010280" y="257040"/>
            <a:ext cx="327240" cy="657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110360" y="317520"/>
            <a:ext cx="130320" cy="12384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110360" y="522360"/>
            <a:ext cx="130320" cy="1220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110360" y="725400"/>
            <a:ext cx="130320" cy="1238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228600" y="1143000"/>
          <a:ext cx="8432640" cy="50673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" y="1143000"/>
                    <a:ext cx="8432640" cy="506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06T10:16:27Z</dcterms:created>
  <dc:creator>MDamms</dc:creator>
  <dc:description/>
  <dc:language>en-US</dc:language>
  <cp:lastModifiedBy>Siemens-Mitarbeiter</cp:lastModifiedBy>
  <cp:lastPrinted>2003-07-02T13:24:00Z</cp:lastPrinted>
  <dcterms:modified xsi:type="dcterms:W3CDTF">2003-09-24T09:07:08Z</dcterms:modified>
  <cp:revision>77</cp:revision>
  <dc:subject/>
  <dc:title>No Slide Title</dc:title>
</cp:coreProperties>
</file>